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06A-E0FA-45D2-BC08-A0EFAAB6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2897-021A-45B5-9014-BDCC2877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74EDA-2122-4A43-83CA-B5205CB9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D4EAA-C9A7-4950-A820-9EB5D0E8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30300-191C-4AC5-8D94-E1E9584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6B87E-3FCE-4B47-B71F-E9D96986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08501-F1FF-485B-AE53-263F558D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C516F-C67B-4026-89AC-F679F0D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F9B5C-A49E-4C84-84AC-8128C26E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681E-71D7-43B5-BDBE-57C0E5CA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B2477-BC10-4E11-A4D3-A75DADBF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747B7-EC36-49F9-A51B-85D0B11D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B21-8C5D-424C-8A14-D4E4D3FB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94BD0-C30C-4101-9045-9C891AE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6713A-3407-4719-8DFD-D3561294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A1F88-2F41-4211-9292-BB57470F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6FD1E-751C-4B42-B86D-157F072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2EB2D-C017-40DF-AB7C-0D665959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416DF-F9E3-4D6D-9731-E6717D7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9523F-9134-4B9D-904D-40851BD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91CF8-E81B-4562-9E42-166D4A68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A0A62-AFCA-45BF-A71F-D20F7282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81360-F973-46B0-965D-513CA7A2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F77-4CDD-4C4D-A62F-1E2E86EE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E1AA9-3DAB-4048-AA83-84712598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85224-53AA-43F1-AA3C-E8D68325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6439A-7E27-4C45-985F-49C6D175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EF83F-BD0F-4642-8010-FB7ABD0A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A642E-56DB-4C1A-B928-F390A1C9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A85B5-CF9D-434E-B461-8D9A9F34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8B0C7-4ECE-4500-AD00-49DEA11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E74B4-EE3B-4B67-B106-DA9375EF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F9800-D636-4B01-8BE8-58E33A5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E77E7-88BF-4D38-8B15-6DF8878B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CE1E-5CCE-4A93-B5F5-E84EB340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D05D-E652-4B5A-94B8-05AE897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F5C1B-DBC5-4453-A75E-23561F39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770B8-9EEF-45AC-ABF6-4F55177D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B4F02-837D-4376-B72C-88C94091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582F1-B20F-4B6B-AA89-8CAA0F19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2AA9E-F5C7-4562-8898-95C24CDC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F433-C051-4A7F-B581-086703DF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E88FC-4359-4A5B-9E8F-90FCCC20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A0ECB-B8E7-48F8-9B22-E5A7D65D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22799-FA8E-4C1F-A0BD-DCBA6A0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FEB-D519-472F-B650-31142A1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2025F-7BD0-4467-BC07-3E976963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13C3E-94DB-4230-946D-488B352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8D36E-90FB-434E-B3BB-2A8A06D8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E8931-C1C8-4D70-B886-402F4189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9791F-F595-4FF6-9BEE-A7F8CA8D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47E7BF-FA94-43A5-A2BD-59C6AD5F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D3690-D9E0-47CC-9BE3-91BF0995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966B0-0515-4338-9476-415A669C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84E1E-E539-4CA3-B92E-6613C2B5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927FE-D914-46C2-8537-E0999479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F547-9ECE-42BD-821A-6EA25F25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FCC25-66F4-4C8E-AFDC-8D25D8EA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47006-AE11-47B2-A7CB-69D8E973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78611-4D32-4174-86F5-FB9AEDFC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0DDAD-D04D-42F5-8EBB-FE49252D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8B4F9-531A-4BC4-A5EB-D625F29C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6C65C-5725-4E4E-A7E7-F7E6264F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AE88D-78ED-4F77-A565-A4B6A568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C371A-4252-48D3-BE26-4AF0D515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6D876-F6ED-46B1-89B4-033FDDB5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5D39E-E82B-4283-9A95-83EA17D7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129D-82D2-4EC0-9334-6789E6D8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83A9C-9686-4060-AC4C-7E5F3576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4B49A-371B-4B6D-B715-CC43D3E3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52D4A-851D-45EE-8E7B-E9333EB7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A8935-B510-47AA-BF10-4D36E977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F0C19-76CD-4D6F-93E2-1C3451B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5ACD9-0401-4609-B9D8-E1886E1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685FB-53FA-4ECB-8622-D78FE349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8F832-36E9-43D5-9EE5-C6C5CCFB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4EFE2-D4CE-4E74-AE1C-94214119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13E7B6-D544-4927-8E78-B9BE2E06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9BAB-7C72-456C-9238-673E5D79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2C6E1-B0A7-46A2-9BDF-327A7EDD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8F42C-1175-4F00-B7F0-C4D3E04A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18B16-C975-4328-957F-CF0E7796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38746-75FF-4F0D-BE75-CFB5474A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88FB3-09D9-4AB1-9CCE-9091EAF9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530C7-3A92-4128-948F-7D895E44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7D9D0-3014-4CF6-91ED-92585AA0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FA11E6-5D62-455A-818D-E795CCA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97A44-E1B0-491D-91FF-88840EA2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4BE55-ECF3-49E2-AD5E-4AE1AE67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2FD3-9D55-4463-8401-9812DBF6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AE7BF-7581-4FD9-8E81-8D880454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46745-55AE-438C-B9A4-B3D0FFDA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F69846-FC50-4F47-9D4A-3BB9E8B1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47F5D-AC52-4077-BE03-75A28B6D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B8D2-4724-450F-B84F-083E0AA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C7954D-9DAF-41B5-BF7E-07755833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53A2D-AA07-4CE2-8310-D81EA78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53FD6-75DD-4452-AFC7-1DB14BAD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17372-C1BE-4426-93C8-D25FA79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961FD0-87A4-4BD4-B93C-AD23E52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69F4-3791-4BC5-8D13-029CCC75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1DB3A-9108-437A-ABFC-8C1F2854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24045-A965-4038-BD4A-4141E962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49BBA-8D3C-4980-AC60-1649CC6DD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4305A4-8AA1-48B2-BEA0-750C336B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02DABD-0469-4028-9D74-D35AD194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4A80C-936E-4E5D-AD1C-C454BFE9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71EC6D-7D4D-4281-932B-B62FDDED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A1D69-D89C-43FF-AF8F-8472BCE2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B4474-A661-4A1B-AF7B-F87D767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0F7DE7-90C6-4FD8-8341-AB55ECD5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239-88E3-42DF-86F6-B9BC264D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EE48-4BB5-4003-BD42-7FDB043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7B5800-E6F8-4E63-9918-CDCE286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B7864-5035-4137-9BA6-C370456A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70821-9E77-4D1B-B5DA-D97C3AEE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6E9305-5E42-4D2F-B4AE-EB3851F7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7D60D-16BF-443F-96F1-60DC2714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9FDCE-4552-4D2A-A340-77496B35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AEA14F-55FD-4081-AD42-0DF0390C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762DF-7E77-4909-91E0-DF29460A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5FFA8-B581-43F9-8A1E-0929A503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5B20FD-C88B-4E6E-A8E9-D861936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0113-A64C-4AA7-A083-8799538B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209D16-33DD-4D96-BAF1-A28A48A1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95EBD-28D1-4164-B921-1C42C8EA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239D3-58D6-43F4-8EF4-C02DDA0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46669-4722-4599-ABAD-79CAC94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B969F-DF8C-4F45-891D-76FCD24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75D66-242E-422B-834D-EDA70810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D63A4-FA44-4736-BA11-F3756A2E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024B2-E538-4E0D-ABBA-E1B9912D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36E18-1400-4509-9877-FAB9271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975489-0504-44E2-8C6F-3709DC8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72A-EF8B-4F1B-A399-57D9885C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55C056-8FF1-4EF0-AB34-DA1A8E21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37314-5908-4DF1-92DC-B0CB31C8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EB6E4-B2B5-42F7-8933-33F183F1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6F52C-6452-4A78-A9CC-060A7964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DD1ED0-B251-488E-BE75-2232EB4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84BA73-75FD-4532-88DF-F2305E3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FE0B3-B692-4F93-8AC2-85A169E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AC568-D1AF-48D1-BB96-D57A2BAF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9FC5E-9492-4B74-9158-A1A8BC9B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6BD9E-813D-445A-B070-BF341055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095D-AEF4-4EBE-A59D-EC2E971E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EE4A2-26AC-4AEF-9834-BEE76B25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98ADB-9026-450E-A2E2-BBFC8BD9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A955C-7A1E-4E18-B875-F0D18977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98F336-2E82-46B7-B933-88DB455D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62CC46-C2E5-42F9-BB0F-DBBB3806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1A764-D1B3-4DE8-B163-48D0B9A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4A922C-688A-453C-A25D-3D91B187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385824-3EB7-4076-AE24-B687C34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2FD5E-E4E2-4CB3-AE4E-C5D4C229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57383C-6B94-42A4-A256-9930F890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B55-C6CA-424C-8704-1C8FE101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F9112D-0465-4164-BDA9-C3EB5F3D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E27A7-6722-4EBD-ABD4-31D2F377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C09C3-C970-4ACC-99C7-FF4A88D6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95CAB-4274-4D17-9F1E-0122AF7D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252F1-AF17-491C-8795-2B102F55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ECD20-EACA-43E7-B7B9-C3E81C71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E01C90-989D-4A42-ABF6-F6613DAB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471E7-DB01-4D36-A3A1-FFF65FC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D7C50-C440-41B2-9D67-B2B5147D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099AEA-C8D0-41A0-B4E0-CA8A766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418B-68D7-41ED-945F-4CC3C3B1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ECBE4-771D-473E-B547-CCB9BAEB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9099A-5AD9-4927-838F-D43096A6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DC37C-1CCA-418A-A3AD-FE43606F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5B9A-1A2E-45E1-8629-F149EC08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3775-B341-4100-A110-7F54D8CE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4BB8-F449-4CDC-ACC1-AC39D1DF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292DF-24FB-47AE-8AB5-5ED0148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D52-844F-4DEF-9671-6227D968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CF6F-AEAE-4F5C-B818-FC47E00C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6B72-0F6A-4F65-9019-FE25F8E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1FA4-4B4C-4825-A6EB-CDB83248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95B5-0434-4FB1-887E-E27E29F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7F08-0E9F-4933-820B-EEB8462A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6385-42B2-4F5C-BB91-18E3B109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91A0-6ACA-4DDB-BD8D-191F95D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891F1-B3CF-4737-9E86-C5316695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3863-3ACF-4C33-A079-105E2A73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8046-4C72-4A95-B42A-9B89722C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C7F0-44E3-407D-8DDC-F4D1B649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707B-1D37-4597-A500-DAEC0033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D4B60-F102-4421-A51F-C5940FCF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505C7-8CF1-4599-BAAB-2EB3BB7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C9FF-1F2E-40E7-9336-0BF5C70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5395-99D3-42BE-B103-7500A82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D948D-ABF1-41A8-8A50-50CB923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E53FC-CFBF-4A9A-9C53-0D1535F3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852D-BB53-43B2-B827-8F5673E5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373F-E069-49FA-B3D7-B8C5E17D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BDE39-434E-4607-8C7C-A43BAC15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6A7-FDE6-401D-A49E-93BB4889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79706-C3A9-43B8-B066-02A0E06F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AD08-4664-4302-9FB4-27147C20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3287-5D2A-4F0A-A7DF-1A29E065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9CEF-B1C9-4734-9CFD-6AD26367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102B-E355-4203-BE51-946D3CDA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373DA-2058-46B0-8F89-07CDD27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953C-04AE-4325-8376-764B563F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C0D6-69E7-4D5C-BC9F-6F871B5C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085DA-5B23-4D44-BCEA-7D700FC5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0EE43-0101-4575-A0D9-0C542979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2DF-454F-4D23-B98D-4AD6016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6B01-527F-4956-BB54-49511EC6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955F-3622-4FA7-9C48-DBFEE220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DB61-85DD-4D7C-9928-6F1E925E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02E37-DC0C-4DCF-831F-48D7ED1C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A8AF-05DC-4BAE-A07E-7DE9FC2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34D2F-C673-46EA-8851-C9DEA02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7A19-F0D7-4937-B8D5-7A80BDC3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5A0FB-84A2-4508-9E2A-F2650EF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07A4C-5899-4347-8CBD-3018090C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6A8F-8BF2-4470-9334-B15D5165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A75-6876-4EB7-9E6B-AE58A50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0240-0C13-4069-935C-102FBF60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16DD1-2B4A-4774-9E4B-C7620B7A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D929-58BC-493F-B435-4B27B09A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1121-C579-4DA6-A101-AE09B455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96FF9-1D0B-4CA5-B13C-97D8810E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53A8-C037-441E-9406-B350D6AF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3BAC4-C459-47A3-8C2B-5F58FB1F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9F5C-A94A-4BCA-A237-CCD30AC2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A6026-E715-4ED8-BB77-0D13B763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40B62-F6CA-41D0-B6DE-24DAFF4B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A65-355C-4F08-AEB4-ECD99BB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3EA5-18AA-4969-8ED0-9620B776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3424-362E-47F5-8AD8-7D951C0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49D7-E0E7-419B-B306-EB7B0009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E44D-ED25-445D-8135-ABED9EAA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3C365-E639-48F7-B21C-036D65DE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89125-BCD2-408F-AEAE-CC5C818C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7BE31-2A05-4B42-A7DE-BBAE9FBF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389E-8932-42E7-88DB-02F03115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66ABB-0951-4E72-A6BC-24D4C27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48142-28D0-4FC2-86B7-437467E3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DB7-553E-4FCB-870D-E05DE75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5E5C5-1629-482D-84A8-645DD1B3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C20C-E018-4811-A55E-85CD1F8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B696E-6F35-4C4C-9477-84F3CC5C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79B55-41CD-42F7-AAF3-659B969F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8AEE0-B76A-45CC-97AE-1AF8F6AF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AD97D-B2DD-4766-818E-7942EE59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3FB8-EF34-47DB-8DAF-A521740D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985A5-DDEA-417B-98F1-D0E11B69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87DA8-6176-4909-B022-A3D4E6A1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28931-B169-4491-A124-E838F1F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E42D-BFAE-4460-B6A8-2EBF118D2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681E-1BC1-414C-8CBB-E45A8391B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2691-C27F-481D-A36F-13A3FDE17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951-2CED-4AC8-B88A-1B62FEE67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E414-A5DF-4156-B386-3D5C636CD6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EF32-EFC3-43E4-A610-C51211D63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086-D5E5-47EB-803C-FDBC33F26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F8C5-D2F6-4CB1-94BA-479955973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0DC-63A4-46B6-BB30-BA378B762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066-C445-4223-966C-D4485A095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B734-FFD2-449F-91E1-0B3B2AB55D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3CB7-E613-499B-963E-9B3360009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B460-D86B-4648-97F8-90E5AE173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B67B-E090-4E26-A9FD-F86DF58142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ED73-00A5-4BBF-8CC4-0C470E24D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4124-F6ED-44E4-A406-E206C891B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BA8F-3E34-4884-B25E-78236827A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21D-D145-453A-BF54-4966279DF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4FF3-9034-4F9A-B27F-25A3DCCCD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20B8-2C2B-4371-AFD1-2A94CCC7A0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AE1-3049-4CC9-BFC1-DB3F08CC3C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975D-4E62-4687-93C2-A942B01831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76EF-692B-4CDB-8FCE-5965703E8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61A-9743-470F-9DBB-3713ED102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239-65DE-4938-A694-146004C901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D18E-B735-46B2-8D9C-81B58C861D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4D6C-D4B7-484A-B260-E14A58524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8093-7BE7-4689-8CD1-F2CA7D50D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029-BBF2-439C-B3CA-47F1B65C6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A381-9CE6-4535-A8B5-B0ECA99924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A1D-EECE-4614-996D-215D3DBE2F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73D7-3493-466C-9054-6D50091FD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3680-DC56-4FCC-A79A-684D7EE01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7AD-083F-4E8E-8674-6E445F838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0D98-812A-4952-9D5B-193567EBB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A046-5FC5-427D-BDF4-482836461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FEB-5E8E-4FA2-A073-8366BD2A4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099A-3E56-4A01-9E10-CE7691A84E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5E7B-2247-4A12-8719-DBD4967768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8703-83A9-4AD3-BF0B-1B16EC03C4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414440" y="2971800"/>
            <a:ext cx="63151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44000" cy="29718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3" descr=""/>
          <p:cNvPicPr/>
          <p:nvPr/>
        </p:nvPicPr>
        <p:blipFill>
          <a:blip r:embed="rId2"/>
          <a:stretch/>
        </p:blipFill>
        <p:spPr>
          <a:xfrm>
            <a:off x="920880" y="4097160"/>
            <a:ext cx="7191360" cy="25909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3" descr=""/>
          <p:cNvPicPr/>
          <p:nvPr/>
        </p:nvPicPr>
        <p:blipFill>
          <a:blip r:embed="rId3"/>
          <a:stretch/>
        </p:blipFill>
        <p:spPr>
          <a:xfrm>
            <a:off x="1357200" y="928800"/>
            <a:ext cx="470160" cy="4381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"/>
          <p:cNvPicPr/>
          <p:nvPr/>
        </p:nvPicPr>
        <p:blipFill>
          <a:blip r:embed="rId4"/>
          <a:stretch/>
        </p:blipFill>
        <p:spPr>
          <a:xfrm>
            <a:off x="1285920" y="414324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826920" y="1057320"/>
            <a:ext cx="7401240" cy="54673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3" descr=""/>
          <p:cNvPicPr/>
          <p:nvPr/>
        </p:nvPicPr>
        <p:blipFill>
          <a:blip r:embed="rId2"/>
          <a:stretch/>
        </p:blipFill>
        <p:spPr>
          <a:xfrm>
            <a:off x="1214280" y="1071720"/>
            <a:ext cx="470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6" name="Picture 2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96120" cy="4838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3" descr=""/>
          <p:cNvPicPr/>
          <p:nvPr/>
        </p:nvPicPr>
        <p:blipFill>
          <a:blip r:embed="rId2"/>
          <a:stretch/>
        </p:blipFill>
        <p:spPr>
          <a:xfrm>
            <a:off x="1285920" y="128592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533520" y="1006560"/>
            <a:ext cx="8076960" cy="55911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3" descr=""/>
          <p:cNvPicPr/>
          <p:nvPr/>
        </p:nvPicPr>
        <p:blipFill>
          <a:blip r:embed="rId2"/>
          <a:stretch/>
        </p:blipFill>
        <p:spPr>
          <a:xfrm>
            <a:off x="2500200" y="189216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3" descr=""/>
          <p:cNvPicPr/>
          <p:nvPr/>
        </p:nvPicPr>
        <p:blipFill>
          <a:blip r:embed="rId3"/>
          <a:stretch/>
        </p:blipFill>
        <p:spPr>
          <a:xfrm>
            <a:off x="3286080" y="257328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3" descr=""/>
          <p:cNvPicPr/>
          <p:nvPr/>
        </p:nvPicPr>
        <p:blipFill>
          <a:blip r:embed="rId4"/>
          <a:stretch/>
        </p:blipFill>
        <p:spPr>
          <a:xfrm>
            <a:off x="4643280" y="2583000"/>
            <a:ext cx="1500480" cy="4381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3" descr=""/>
          <p:cNvPicPr/>
          <p:nvPr/>
        </p:nvPicPr>
        <p:blipFill>
          <a:blip r:embed="rId5"/>
          <a:stretch/>
        </p:blipFill>
        <p:spPr>
          <a:xfrm>
            <a:off x="2357280" y="3263760"/>
            <a:ext cx="1500480" cy="4381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6"/>
          <a:stretch/>
        </p:blipFill>
        <p:spPr>
          <a:xfrm>
            <a:off x="3214800" y="535788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3" descr=""/>
          <p:cNvPicPr/>
          <p:nvPr/>
        </p:nvPicPr>
        <p:blipFill>
          <a:blip r:embed="rId7"/>
          <a:stretch/>
        </p:blipFill>
        <p:spPr>
          <a:xfrm>
            <a:off x="4572000" y="535788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3" descr=""/>
          <p:cNvPicPr/>
          <p:nvPr/>
        </p:nvPicPr>
        <p:blipFill>
          <a:blip r:embed="rId8"/>
          <a:stretch/>
        </p:blipFill>
        <p:spPr>
          <a:xfrm>
            <a:off x="2143080" y="6072120"/>
            <a:ext cx="1143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Picture 2" descr=""/>
          <p:cNvPicPr/>
          <p:nvPr/>
        </p:nvPicPr>
        <p:blipFill>
          <a:blip r:embed="rId1"/>
          <a:stretch/>
        </p:blipFill>
        <p:spPr>
          <a:xfrm>
            <a:off x="843120" y="1090440"/>
            <a:ext cx="7457760" cy="53629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3" descr=""/>
          <p:cNvPicPr/>
          <p:nvPr/>
        </p:nvPicPr>
        <p:blipFill>
          <a:blip r:embed="rId3"/>
          <a:stretch/>
        </p:blipFill>
        <p:spPr>
          <a:xfrm>
            <a:off x="2000160" y="249084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" descr=""/>
          <p:cNvPicPr/>
          <p:nvPr/>
        </p:nvPicPr>
        <p:blipFill>
          <a:blip r:embed="rId4"/>
          <a:stretch/>
        </p:blipFill>
        <p:spPr>
          <a:xfrm>
            <a:off x="3643200" y="250020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3" descr=""/>
          <p:cNvPicPr/>
          <p:nvPr/>
        </p:nvPicPr>
        <p:blipFill>
          <a:blip r:embed="rId5"/>
          <a:stretch/>
        </p:blipFill>
        <p:spPr>
          <a:xfrm>
            <a:off x="2214720" y="317664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"/>
          <p:cNvPicPr/>
          <p:nvPr/>
        </p:nvPicPr>
        <p:blipFill>
          <a:blip r:embed="rId6"/>
          <a:stretch/>
        </p:blipFill>
        <p:spPr>
          <a:xfrm>
            <a:off x="2071800" y="4643280"/>
            <a:ext cx="2143080" cy="4384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" descr=""/>
          <p:cNvPicPr/>
          <p:nvPr/>
        </p:nvPicPr>
        <p:blipFill>
          <a:blip r:embed="rId7"/>
          <a:stretch/>
        </p:blipFill>
        <p:spPr>
          <a:xfrm>
            <a:off x="3143160" y="5319720"/>
            <a:ext cx="14288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9" name="Picture 3" descr=""/>
          <p:cNvPicPr/>
          <p:nvPr/>
        </p:nvPicPr>
        <p:blipFill>
          <a:blip r:embed="rId1"/>
          <a:stretch/>
        </p:blipFill>
        <p:spPr>
          <a:xfrm>
            <a:off x="528480" y="763560"/>
            <a:ext cx="8087040" cy="60390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3" descr=""/>
          <p:cNvPicPr/>
          <p:nvPr/>
        </p:nvPicPr>
        <p:blipFill>
          <a:blip r:embed="rId2"/>
          <a:stretch/>
        </p:blipFill>
        <p:spPr>
          <a:xfrm>
            <a:off x="5143680" y="5143680"/>
            <a:ext cx="1428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3" name="Picture 2" descr=""/>
          <p:cNvPicPr/>
          <p:nvPr/>
        </p:nvPicPr>
        <p:blipFill>
          <a:blip r:embed="rId1"/>
          <a:stretch/>
        </p:blipFill>
        <p:spPr>
          <a:xfrm>
            <a:off x="861840" y="826920"/>
            <a:ext cx="7420320" cy="59151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3" descr=""/>
          <p:cNvPicPr/>
          <p:nvPr/>
        </p:nvPicPr>
        <p:blipFill>
          <a:blip r:embed="rId2"/>
          <a:stretch/>
        </p:blipFill>
        <p:spPr>
          <a:xfrm>
            <a:off x="6643800" y="785880"/>
            <a:ext cx="1428480" cy="438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3" descr=""/>
          <p:cNvPicPr/>
          <p:nvPr/>
        </p:nvPicPr>
        <p:blipFill>
          <a:blip r:embed="rId3"/>
          <a:stretch/>
        </p:blipFill>
        <p:spPr>
          <a:xfrm>
            <a:off x="3429000" y="20001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3" descr=""/>
          <p:cNvPicPr/>
          <p:nvPr/>
        </p:nvPicPr>
        <p:blipFill>
          <a:blip r:embed="rId4"/>
          <a:stretch/>
        </p:blipFill>
        <p:spPr>
          <a:xfrm>
            <a:off x="2928960" y="321480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3" descr=""/>
          <p:cNvPicPr/>
          <p:nvPr/>
        </p:nvPicPr>
        <p:blipFill>
          <a:blip r:embed="rId5"/>
          <a:stretch/>
        </p:blipFill>
        <p:spPr>
          <a:xfrm>
            <a:off x="2714760" y="5062680"/>
            <a:ext cx="1428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0" name="Picture 4" descr=""/>
          <p:cNvPicPr/>
          <p:nvPr/>
        </p:nvPicPr>
        <p:blipFill>
          <a:blip r:embed="rId1"/>
          <a:stretch/>
        </p:blipFill>
        <p:spPr>
          <a:xfrm>
            <a:off x="528480" y="763560"/>
            <a:ext cx="80870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3" name="Picture 2" descr=""/>
          <p:cNvPicPr/>
          <p:nvPr/>
        </p:nvPicPr>
        <p:blipFill>
          <a:blip r:embed="rId1"/>
          <a:stretch/>
        </p:blipFill>
        <p:spPr>
          <a:xfrm>
            <a:off x="895320" y="1028880"/>
            <a:ext cx="7353360" cy="53528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3" descr=""/>
          <p:cNvPicPr/>
          <p:nvPr/>
        </p:nvPicPr>
        <p:blipFill>
          <a:blip r:embed="rId2"/>
          <a:stretch/>
        </p:blipFill>
        <p:spPr>
          <a:xfrm>
            <a:off x="1357200" y="164304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3" descr=""/>
          <p:cNvPicPr/>
          <p:nvPr/>
        </p:nvPicPr>
        <p:blipFill>
          <a:blip r:embed="rId3"/>
          <a:stretch/>
        </p:blipFill>
        <p:spPr>
          <a:xfrm>
            <a:off x="1357200" y="227664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3" descr=""/>
          <p:cNvPicPr/>
          <p:nvPr/>
        </p:nvPicPr>
        <p:blipFill>
          <a:blip r:embed="rId4"/>
          <a:stretch/>
        </p:blipFill>
        <p:spPr>
          <a:xfrm>
            <a:off x="1357200" y="349092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3" descr=""/>
          <p:cNvPicPr/>
          <p:nvPr/>
        </p:nvPicPr>
        <p:blipFill>
          <a:blip r:embed="rId5"/>
          <a:stretch/>
        </p:blipFill>
        <p:spPr>
          <a:xfrm>
            <a:off x="1428840" y="4133880"/>
            <a:ext cx="500040" cy="438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3" descr=""/>
          <p:cNvPicPr/>
          <p:nvPr/>
        </p:nvPicPr>
        <p:blipFill>
          <a:blip r:embed="rId6"/>
          <a:stretch/>
        </p:blipFill>
        <p:spPr>
          <a:xfrm>
            <a:off x="1428840" y="5348160"/>
            <a:ext cx="500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38200" y="1552680"/>
            <a:ext cx="8067600" cy="37526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692360" y="2919240"/>
            <a:ext cx="469800" cy="438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1714680" y="349092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714680" y="413388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1714680" y="477684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611280" y="743040"/>
            <a:ext cx="7921440" cy="6091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785960" y="150012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744560" y="4214880"/>
            <a:ext cx="4701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82160" cy="5639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357200" y="1000080"/>
            <a:ext cx="47016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285920" y="385776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71680" y="1324080"/>
            <a:ext cx="8001000" cy="4209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714680" y="263376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4"/>
          <a:stretch/>
        </p:blipFill>
        <p:spPr>
          <a:xfrm>
            <a:off x="1714680" y="327672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5"/>
          <a:stretch/>
        </p:blipFill>
        <p:spPr>
          <a:xfrm>
            <a:off x="1714680" y="45626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6"/>
          <a:stretch/>
        </p:blipFill>
        <p:spPr>
          <a:xfrm>
            <a:off x="1785960" y="513396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058240" cy="24195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2" descr=""/>
          <p:cNvPicPr/>
          <p:nvPr/>
        </p:nvPicPr>
        <p:blipFill>
          <a:blip r:embed="rId2"/>
          <a:stretch/>
        </p:blipFill>
        <p:spPr>
          <a:xfrm>
            <a:off x="1208160" y="3524400"/>
            <a:ext cx="7324560" cy="30002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3"/>
          <a:stretch/>
        </p:blipFill>
        <p:spPr>
          <a:xfrm>
            <a:off x="1785960" y="16430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4"/>
          <a:stretch/>
        </p:blipFill>
        <p:spPr>
          <a:xfrm>
            <a:off x="1714680" y="3500280"/>
            <a:ext cx="469800" cy="438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5"/>
          <a:stretch/>
        </p:blipFill>
        <p:spPr>
          <a:xfrm>
            <a:off x="1714680" y="542916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747720" y="981000"/>
            <a:ext cx="7648560" cy="5543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1387440" y="242892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1459080" y="420516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4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029800" cy="5096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2"/>
          <a:stretch/>
        </p:blipFill>
        <p:spPr>
          <a:xfrm>
            <a:off x="1530360" y="327672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3"/>
          <a:stretch/>
        </p:blipFill>
        <p:spPr>
          <a:xfrm>
            <a:off x="1643040" y="391968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4"/>
          <a:stretch/>
        </p:blipFill>
        <p:spPr>
          <a:xfrm>
            <a:off x="1643040" y="513396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Picture 2" descr=""/>
          <p:cNvPicPr/>
          <p:nvPr/>
        </p:nvPicPr>
        <p:blipFill>
          <a:blip r:embed="rId1"/>
          <a:stretch/>
        </p:blipFill>
        <p:spPr>
          <a:xfrm>
            <a:off x="500040" y="987480"/>
            <a:ext cx="8143920" cy="56102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2"/>
          <a:stretch/>
        </p:blipFill>
        <p:spPr>
          <a:xfrm>
            <a:off x="1714680" y="106200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3"/>
          <a:stretch/>
        </p:blipFill>
        <p:spPr>
          <a:xfrm>
            <a:off x="1714680" y="2276640"/>
            <a:ext cx="46980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4"/>
          <a:stretch/>
        </p:blipFill>
        <p:spPr>
          <a:xfrm>
            <a:off x="1714680" y="3633840"/>
            <a:ext cx="469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49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